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077-B6B6-40E4-9B76-F069B98A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98E-B76D-453B-A118-D386F4B5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9E5-7D5C-4406-940B-6A2C7700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954-96B4-49DC-AECE-FBF4CFFF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B96-C21A-435F-B711-DF21BF1B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C96-E04A-45BC-A6A4-8B3CC7C7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FE1-4CF4-4E5A-A1A4-012A829F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5A5-5FA7-4AE8-B241-21691ED8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C73-617E-4B21-A22B-86E3E86B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0E5-58B9-41AC-9A1F-99B5356E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713-41C0-4B76-A762-20860EB8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6B1-22C5-40AD-A0D5-28B39DAA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78C9-EAD7-4F77-987B-3C007274A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832120" cy="3009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553080" y="304920"/>
            <a:ext cx="2260800" cy="4724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457200" y="3886200"/>
            <a:ext cx="1692360" cy="191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400000">
            <a:off x="2340720" y="2002320"/>
            <a:ext cx="4724280" cy="1176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Rounded MT Bold"/>
              </a:rPr>
              <a:t>We Recycle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029200"/>
            <a:ext cx="868680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C Declares This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Most Recycle Friendly Classroom!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31:40Z</dcterms:created>
  <dc:creator>mes5c</dc:creator>
  <dc:description/>
  <dc:language>en-US</dc:language>
  <cp:lastModifiedBy>mes5c</cp:lastModifiedBy>
  <dcterms:modified xsi:type="dcterms:W3CDTF">2011-02-03T13:08:10Z</dcterms:modified>
  <cp:revision>4</cp:revision>
  <dc:subject/>
  <dc:title>Slide 1</dc:title>
</cp:coreProperties>
</file>